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C49-E9F7-4D25-88D6-82595D62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19A-72E2-4026-A59B-B17A336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437-4991-40BF-AE31-02087905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0B1-E3D2-476E-B004-28EA848B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F2F-BC51-4BE3-A193-1F8C745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675C-D05A-4342-A989-261BDAEA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0B97-083D-4A48-8D0E-2C855D93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50EB-72E4-4BB0-BE52-9015FDEE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2E91-EB26-4F02-AB06-F6D53E21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B36C-AA5C-4ED6-9A54-25C644F8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296-F347-4160-996A-7FEBBDF0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458-A90A-42D0-BB33-ED9E6806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65A1-ABD5-471A-A25D-BC5A68D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DA74-2045-48FE-A850-09727500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9540-C6BF-4CF4-81CE-201E0D9C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C824-2D9C-41F6-BB3D-E8B3D537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84F-B456-415A-B7AB-52FB01A6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F0A-1B53-400A-AA2D-0DCBBF6A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11B-CA04-48BD-82DA-F1F29EF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542-AA3D-403A-8D04-4CD9683B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21B-CE4D-4070-9F31-8CA4083A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CE6-622A-4E1C-9FE0-8FE284E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F71-0C55-47E2-91FF-9C4D67E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0DA-DE0F-4362-842B-E19BBB26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0AF0-7B29-4EC0-ADC9-1DD1DF997FAC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C14-335E-4196-AFDD-3B1B8F63A799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 kezelé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apismere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kezelő rendsz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datbáziskezelő rendszerek két fajtá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eépülő típus (SQ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Valóságos programozási nyelv (dBase, Clipper, Paradox, Oracle 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egédfeladato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védelem, adatbiztonsá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ntegritási feltéte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zinkronizáci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989000"/>
            <a:ext cx="2447640" cy="93528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068640"/>
            <a:ext cx="2448000" cy="93492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ulajdonsá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4076640"/>
            <a:ext cx="2448000" cy="93492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pcsol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gy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olyan dolog (objektum, ami minden más dologtól (objektumtól) megkülönböztethet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éldá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Dologoz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ut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Ügyfé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Cik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gyed egy konkrét értéke: </a:t>
            </a: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előfordul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ulajdonsá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z egyed belső szerkeze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z egyedeket tulajdonságokkal (attribútumokkal) írjuk 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 dolgozó egyed tulajdonságai pl.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Név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Dolgozószá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Fizeté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 tulajdonság értékeivel egy adott egyed konkrét értékét határozzuk me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mennyiben egy tulajdonság vagy tulajdonságok egy csoportja egyértelműen meghatározza, hogy az egyed melyik értékéről van szó, akkor ezeket együtt </a:t>
            </a:r>
            <a:r>
              <a:rPr b="1" i="1" lang="hu-HU" sz="1800" spc="-1" strike="noStrike">
                <a:solidFill>
                  <a:srgbClr val="ffffff"/>
                </a:solidFill>
                <a:latin typeface="Tahoma"/>
              </a:rPr>
              <a:t>kulcsna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nevezzü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ulajdonság konkrét értékei a tulajdonság előfordulás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ek alapelem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kapcsolat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gyed külső szerkez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apcsolat az egyedek közötti visz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l.: vevő - rendelés, számla – cik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ajtá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:1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apcs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: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apcs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:M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apcs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Egy-egy típusú kapcsol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egyik egyedhalmaz mindegyik eleméhez a másik egyedhalmaznak pontosan egy eleme kapcsolód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emélyi szám : Dolgoz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Egy-több típusú kapcsol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 egyedhalmaz mindegyik eleméhez a B egyedhalmaz több eleme is tartoz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vő : Rendel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Több-több típusú kapcsol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 egyedhalmaz minden eleméhez a B egyedhalmaz több eleme tartozhat és fordí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rmék : Alkatrés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adatmodel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éges sok egyednek, azok véges számú tulajdonságainak és kapcsolatainak a halmaz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datbázi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véges sok előfordulásnak, azok véges sok tulajdonságértékének és kapcsolatelőfordulásának az adatmodell szerint szervezett együtt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lós, hierarchiku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láció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bjektumo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bjektum-relációs adatmod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modellek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hálós adatmod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zerkezetét gráffal adjuk meg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A csomópontok az egyed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Az élek a kapcsolat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egkisebb címezhető egység a rek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ierarchikus adatmod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zerkezete speciális gráf: a f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Relációs adatmode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z egyedet egy táblázattal adjuk me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 táblázat oszlopai a tulajdonság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l.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ba Tamá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69/02/26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ark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Varga Péter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74/05/12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Budap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Varga Géza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81/11/29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Keszthe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eaeaea"/>
                </a:solidFill>
                <a:latin typeface="Tahoma"/>
              </a:rPr>
              <a:t>Mottó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„ …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akkor alkottál tökéleteset, ha már nem tudsz mit hozzátenni, hanem ha már nem tudsz mit elvenni belől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Saint-Exupé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láció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tulajdonsághalmazok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Descartes-szorza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ának részhalma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A „relációs” elnevezés a halmazelméleti reláció fogalmából származ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láció matematikai értelemb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ÉV = {K,T,N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OR = {21,16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ÉV x KOR = {[K,21], [K,16], [T,21], [T,16], [N,21], [N,16]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1 = {[K,21],[T,21],[N,21]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1 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NÉV x K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 tábla a reláció (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szlopai az attribútum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orai a rekord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ttribútumok száma : az R fo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sorok száma: R számossá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relációs adatbázis rövid jelőlé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{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…,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  a reláció neve, A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pedig attribút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él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ZEMÉLY {NÉV,SZÜLDÁTUM,LAKHELY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aeaea"/>
                </a:solidFill>
                <a:latin typeface="Tahoma"/>
              </a:rPr>
              <a:t>Minta</a:t>
            </a: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981080"/>
          <a:ext cx="7543800" cy="369576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vő ne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l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vő cí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táridő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NDEL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szám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név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ysá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 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szám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kknév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ysá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 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Összérté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áírás, pecsé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ndelési bizonylatok nyilvántartá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nden bizonylat kap egy rendelési számot (rendszá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 vevő több rendelést is küldhet (vkó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NDELÉS {rendszám,vkód,vevőnév, vevőcím,kelt,határidő,cikkszám, cikknév, egysár, rendmenny összérték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 reláció kulc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ttribútumhalmaz egy K részhalmaza kulcs , 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 értékei az R reláció mindegyik sorát egyértelműen meghatározz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e ha egyetlen attribútumot is elhagyunk K –ból , ez már nem teljesü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NDELÉS kulcsa: {rendszám,cikkszám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Csoportosítá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ű kul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etlen attribútumból á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Összetett kul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ébké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lsődleges attribút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egalább egy kulcsnak a rés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ásodlagos attribút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ébké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{személyiszám} egyszerű kulcs a DOLGOZÓ {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személyiszám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név,fizetés} reláció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{személyiszám,hónap} összetett kulcs a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ÖRLESZTÉS{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személyiszám,hónap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összeg}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láció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láhúzással jelöljük a reláció kulcs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ülső/idegen kul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ulajdonság (vagy több tulajdonság együttese), amely kulcsa egy másik reláció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l. a személyiszám a Törlesztésben külső kul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Kapcsolat relációs adatbázisb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ét egyed csak akkor áll kapcsolatban egymással, ha az egyik külső kulcsként tartalmazza a másik kulcsá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Jelőlések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98900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70828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14972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342900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270828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1989000"/>
            <a:ext cx="165564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42900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149720"/>
            <a:ext cx="1656000" cy="6494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27664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29973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371628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11280" y="443700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51640" y="350028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3716280"/>
            <a:ext cx="14436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1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na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en-fé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573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rjú-lába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29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értelmű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ok elméle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, informáci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modellek, adatbázis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modellek alapelem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lációs adatmod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unkcionális függősé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ormálformá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ormalizálá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Ábrázolá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ulcsszerepű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ásodlagos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ulcsszerepű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ED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ásodlagos tulajdonság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1584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1. 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  dá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ÉM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Össz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OLGOZ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           fize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060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2.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21080" y="1844640"/>
            <a:ext cx="2016000" cy="396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184464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313992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OLGOZ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4437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           fizetés        fönö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3"/>
            <a:endCxn id="216" idx="3"/>
          </p:cNvCxnSpPr>
          <p:nvPr/>
        </p:nvCxnSpPr>
        <p:spPr>
          <a:xfrm flipV="1">
            <a:off x="5363640" y="2491920"/>
            <a:ext cx="2520" cy="2592720"/>
          </a:xfrm>
          <a:prstGeom prst="bentConnector3">
            <a:avLst>
              <a:gd name="adj1" fmla="val 1440000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3. 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nd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GÉPKOC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ulajdonos  üzemeltet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9440" y="1700280"/>
            <a:ext cx="2016000" cy="3960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1700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99556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MÉ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29264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                 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4" idx="1"/>
            <a:endCxn id="226" idx="3"/>
          </p:cNvCxnSpPr>
          <p:nvPr/>
        </p:nvCxnSpPr>
        <p:spPr>
          <a:xfrm rot="10800000">
            <a:off x="3491640" y="2347200"/>
            <a:ext cx="1944000" cy="2521800"/>
          </a:xfrm>
          <a:prstGeom prst="bentConnector3">
            <a:avLst>
              <a:gd name="adj1" fmla="val 4999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 flipH="1">
            <a:off x="4427640" y="522936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4.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564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og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OGOSITVÁ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n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MÉ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6" idx="1"/>
            <a:endCxn id="238" idx="3"/>
          </p:cNvCxnSpPr>
          <p:nvPr/>
        </p:nvCxnSpPr>
        <p:spPr>
          <a:xfrm rot="10800000">
            <a:off x="3418920" y="2275920"/>
            <a:ext cx="2016720" cy="2592720"/>
          </a:xfrm>
          <a:prstGeom prst="bentConnector3">
            <a:avLst>
              <a:gd name="adj1" fmla="val 49991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5. 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58980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672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RMÉ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neve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gység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1628640"/>
            <a:ext cx="201600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28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2924280"/>
            <a:ext cx="201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22100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e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65440" y="1628640"/>
            <a:ext cx="2016360" cy="396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162864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l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kó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92428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ÉTEL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221000"/>
            <a:ext cx="201636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r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700360" y="177336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580000" y="2205000"/>
            <a:ext cx="863640" cy="2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Funkcionális függő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gyen R{A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A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…,A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} egy relác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, Q az A attribútumhalmaz részhalmaz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t mondjuk, hogy P funkcionálisan meghatározza Q-t (Q funkcionálisan függ P-től), ha abból, hogy a reláció valamely két sora megegyezik a P halmazon, következik, hogy a két sor értékei megegyeznek a Q halmazon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Jele: P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NDELÉS {rendszám,vkód,vevőnév,vevőcím, kelt, határidő,cikkszám,cikknév,egysár, rendmenny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 = {rendszám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Q = {vkód,kelt,határidő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setén P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Q teljesü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ovábbá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vkód}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vevőnév,vevőcí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cikkszám}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cikknév,egysár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rendszám,cikkszám}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rendmenny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Megjegyzé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 kulcs funkcionálisan meghatározza a „kulcson kivüli” attribútumhalmaz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rendszám,cikkszám}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vkód,vevőnév, kelt,határidő,cikknév,egysár,rendmenny, összérték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 kulcs funkcionálisan meghatározza az egész attribútumhalmaz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aeaea"/>
                </a:solidFill>
                <a:latin typeface="Tahoma"/>
              </a:rPr>
              <a:t>A kulcs definiciója a funkcionális függőség fogalmáv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K kulcsa az R{A} relációnak, 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Nincsen olyan Y valódi részhalmaza K.nak, amelyre Y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teljesü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aeaea"/>
                </a:solidFill>
                <a:latin typeface="Tahoma"/>
              </a:rPr>
              <a:t>Az információkezelés rövid történet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ávközlési szakemberek munkái 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Shannon: A hírközlés matematikai elméle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matematikai problémák megoldására használt számítógépek összetett információk feldolgozására alakalmas gépekké fejlődt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genetikai információ hordozójának felfedez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nformáció „érték” le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gény született intelligens adatbázisokra és azokat kezelő programok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atmodellekben való gondolkod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Függőségi csalá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 adatbázisban lehet több olyan (P,Q) pár is melyre P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zek halmazát a reláció funkcionális függőségi családjának hívjuk és F-fel jelőljü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smert funkcionális függőségekből kikövetkezhetőek újabb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aeaea"/>
                </a:solidFill>
                <a:latin typeface="Tahoma"/>
              </a:rPr>
              <a:t>Funkcionális függőségek tulajdonságai(Armstrong – axiomák)</a:t>
            </a:r>
            <a:r>
              <a:rPr b="1" lang="hu-H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flexivit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Q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ővi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 és S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, akkor P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Q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ranzitívit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 Q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esítési szab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szeudotranzitívitási szab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T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, akkor P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ekompozíciós szab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 és S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, akkor P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Lezárt fogal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gyen F egy függőségi család, X részhalmaza A-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(X lezártja F-re nézve) azon Q attribútumok halmaza, amelyre az X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Q függőség az Armstrong – axiomák segítségével F-ből kikövetkezhet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X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Y függőség akkor és csak akkor következik egy F függőségi családból az Armstrong – axiomák alapján, ha az Y részhalmaza 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-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X</a:t>
            </a:r>
            <a:r>
              <a:rPr b="1" lang="hu-HU" sz="4400" spc="-1" strike="noStrike" baseline="30000">
                <a:solidFill>
                  <a:srgbClr val="eaeaea"/>
                </a:solidFill>
                <a:latin typeface="Tahoma"/>
              </a:rPr>
              <a:t>+</a:t>
            </a: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 algoritmu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ott az X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és az 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ozzuk létre az 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(0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(1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…,X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(n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halmazo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0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=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+1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–et 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–bő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egkeressük F függőségei közül azokat , amelyeknek bal oldalán az 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valamely részhalmaza szere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Vesszük az így talált függőségek jobb oldalán szereplő halmazok unióját (legyen Q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i+1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szer előáll 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=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+1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helyz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z a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(i)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lesz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NDELÉS {rendszám,vkód,vevőnév,vevőcím, kelt, határidő,cikkszám,cikknév,egysár, rendmenny,összérték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F f. csalá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rend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kód,kelt,határidő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kód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evőnév,vevőcím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cikk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cikknév,egysár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rendszám,cikk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rendmenny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övetkezik –e F-ből: {rendszám}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{vevőcím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) {rendszám} lezártjának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B) {vevőcím}részhalmaza-e a lezárt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0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1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}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vkód,kelt,határidő,összérték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2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,vkód,kelt,határidő,összérték}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{vevőnév,vevőcí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3)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{rendszám}</a:t>
            </a:r>
            <a:r>
              <a:rPr b="0" lang="hu-HU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{rendszám,vkód,kelt,határidő,összérték,vevőnév,vevőcím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Péld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vevőcím}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{rendszám}</a:t>
            </a:r>
            <a:r>
              <a:rPr b="0" lang="hu-HU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ga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az a kérdéses függőség származható volt a megadott függőségi családb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Relációk szétbontá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él: A redundancia megszüntet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peciális funkcionális függőség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lje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észlege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ranzitív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Teljes függő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gyen P,Q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és P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Q teljesen függ P-től, ha Q a P egyetlen részhalmazától sem füg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éld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NDELÉSTÉTEL {rendszám,cikkszám, darab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ÖRLESZTÉS{szemszám,hónap,összeg,kelt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llenkező esetben részleges a függősé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Tranzítiv függő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S tranzitíven függ P-től, ha létezik olyan Q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, hogy P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,Q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e visszafelé nem igazak a függőség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á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DOLGOZÓ{szemszám,név,osztkód,osztelnev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RENDELÉSFEJ{rendszám,vkód,vevőnév,vevőcím,kelt,határidő,összérték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eaea"/>
                </a:solidFill>
                <a:latin typeface="Tahoma"/>
              </a:rPr>
              <a:t>Az információ ugyanúgy a világegyetem fizikai valóságához tartozik, mint az anyag és az energi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4560840"/>
            <a:ext cx="75438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l. tiszta információ hordozó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anköny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NS-moleku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zámítógépes input adat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205000"/>
            <a:ext cx="1800000" cy="1224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szta in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1916280"/>
            <a:ext cx="2519280" cy="1728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formáció feldolgoz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1916280"/>
            <a:ext cx="2448000" cy="165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elentést hordozó in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2349360"/>
            <a:ext cx="57456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349360"/>
            <a:ext cx="57456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Generátor attribútumhalmaz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gyen P,Q</a:t>
            </a: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és P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P a Q generátora, ha a P elemeinak száma kisebb, mint Q-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z információ tárolá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het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övegszer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Állomány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datbázis-tervezés : hivat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modellek, adatbázis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datbázi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oknak kapcsolataikkal együtt való ábrázolása, tárol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őn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re sokan használhatj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datok csak egyszeresen vannak táro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modell - probálkozás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malista megközelí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Gráfokkal való ábrázol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hiearchikus, hálós adatmodell előd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emantikai megközelí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modellt verbálisan, szavakkal írták 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atematikai megközelí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atematikai struktúrák felhasznál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odd relációs adatmodell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datbáziskezelő rendsz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oftver, amellyel az adatbázist kezelni tudj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ét fontos műve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étrehozás (karbantartá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isszakeresé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nnek megfelelő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definíciós nye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kérdező nye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7:44:24Z</dcterms:created>
  <dc:creator>Nagymáté Péter</dc:creator>
  <dc:description/>
  <dc:language>en-US</dc:language>
  <cp:lastModifiedBy>Nagymáté Péter</cp:lastModifiedBy>
  <dcterms:modified xsi:type="dcterms:W3CDTF">2003-12-09T13:11:42Z</dcterms:modified>
  <cp:revision>32</cp:revision>
  <dc:subject/>
  <dc:title>Adatbázis kezelés</dc:title>
</cp:coreProperties>
</file>